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17D-9BCC-43C8-8998-88591ADB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79B-49A5-43A4-B291-BD3E66B5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DFB-6C24-4E31-B715-DA774ECB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64E-685C-4785-A65C-26A8DC3C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FBD2-934D-48B9-BD00-B5F6F714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8B3C-DF97-43F6-9978-19FA5BAE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0AB4-0C40-4181-BA7D-5A1727D6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7DC5-3FD0-4667-B0FC-7C5E5093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BCF0-E00B-42D9-9A6D-552D434B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ED98-50FF-4AB1-BFE8-9D43E128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A13A-22CE-4BFB-8468-E6F4FAE0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B0F-94D8-42CD-B39C-5F43C155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9DE3-58AE-4F1F-A83D-0748DAD2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62B4-30F4-42AB-AC12-8BEA9AE1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801B-D0D2-4C3C-A681-64386E9B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6834-3767-4BDB-B918-1DFF9AAC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AFB8-E34B-41DD-B3FE-B8C627E1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2FF-4FE4-4F96-8C91-E7A73679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E6C-7FD7-4264-97CE-9C3CA03D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36A-EAA1-4265-94C0-392719C7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111-0652-4CD2-974C-1CA8E6F7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4E3-DE81-4BD1-8CED-17912DF1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839-CB52-4F00-AF76-118D1D67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847-046C-4C03-8820-1F9686A9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C0B9-6B5C-4544-A531-AA2E7F9035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2513-C894-4F81-B19B-C9E2D63C49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plib.ru/literature/proverbs/htm" TargetMode="External"/><Relationship Id="rId2" Type="http://schemas.openxmlformats.org/officeDocument/2006/relationships/hyperlink" Target="http://www.wisdoms.ru/poslovizi_i_pogovorki" TargetMode="External"/><Relationship Id="rId3" Type="http://schemas.openxmlformats.org/officeDocument/2006/relationships/hyperlink" Target="http://www.foxdesign.ru/aphorism/topik/t_proverb.html" TargetMode="External"/><Relationship Id="rId4" Type="http://schemas.openxmlformats.org/officeDocument/2006/relationships/hyperlink" Target="http://www.russianplanet.ru/filblog/ruslit/poslovitsy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03280" y="2852640"/>
            <a:ext cx="6608880" cy="196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Русские послови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и поговор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31640" y="5877000"/>
            <a:ext cx="62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втор: Семёнова О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116000" y="907920"/>
            <a:ext cx="71848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новной вопрос нашего проек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952720" cy="561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1916280"/>
            <a:ext cx="7488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227664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3500280"/>
            <a:ext cx="59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В чем заключается  переносный смысл пословиц и поговорок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50920" y="549360"/>
            <a:ext cx="5276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блемные вопросы: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716112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ределение пословицы и погово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м они отличаю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ва история их созд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 надо понимать их переносный  смыс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ва их темат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1916280"/>
            <a:ext cx="8496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ормирование моральных ценностей у уче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огащение словарного запа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ширение кругозора ученик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обретение навыков самостоятельной работы и самостоятельного поиска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42920" y="620640"/>
            <a:ext cx="734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идактические цели проекта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162864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учение поиску необходимой информации по определенной проблеме, ключевым слов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учение работе в 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ower-Poi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оформления результа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19280" y="54936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Методические задач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42920" y="476280"/>
            <a:ext cx="70423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дставление результатов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следований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670120" y="2197080"/>
            <a:ext cx="4973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ефера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букле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еб-сай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чинение, эс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езент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тенгаз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332000" y="620640"/>
            <a:ext cx="67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должительност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екта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2852640"/>
            <a:ext cx="79200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роект рассчитан на 4 час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1542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1773360"/>
            <a:ext cx="822960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4 академических час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Ознакомление учащихся с проектом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оиск информаци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Самостоятельная работа учащихс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росмотр результа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76360" y="476280"/>
            <a:ext cx="65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Этапы проведения проект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Garamond"/>
                <a:hlinkClick r:id="rId1"/>
              </a:rPr>
              <a:t>www.fplib.ru/literature/proverbs/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Garamond"/>
                <a:hlinkClick r:id="rId2"/>
              </a:rPr>
              <a:t>www.wisdoms.ru/poslovizi_i_pogovor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Garamond"/>
                <a:hlinkClick r:id="rId3"/>
              </a:rPr>
              <a:t>www.foxdesign.ru/aphorism/topik/t_proverb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Garamond"/>
                <a:hlinkClick r:id="rId4"/>
              </a:rPr>
              <a:t>www.russianplanet.ru/filblog/ruslit/poslovitsy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oslovicy.globala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76360" y="476280"/>
            <a:ext cx="65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Информационные ресурс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5:52:10Z</dcterms:created>
  <dc:creator>Ирина</dc:creator>
  <dc:description/>
  <dc:language>en-US</dc:language>
  <cp:lastModifiedBy>User_07</cp:lastModifiedBy>
  <dcterms:modified xsi:type="dcterms:W3CDTF">2009-11-27T07:12:10Z</dcterms:modified>
  <cp:revision>17</cp:revision>
  <dc:subject/>
  <dc:title>Слайд 1</dc:title>
</cp:coreProperties>
</file>